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5DF-5836-4053-AB25-88E85A6F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8B6-D51F-45DA-87C8-FEAD5D75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754-10A0-4F81-BB53-B91902CB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5CC-C290-4B8D-8205-70CEA0DC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51CF-AB93-4B6F-94D7-97C0512D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ADBB-D160-4509-B697-E9FFD798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A301-DC58-4F33-95B0-45DC1105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0BF9-E448-4E02-97C2-597E34FB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9618-9C8F-437A-BBD8-EBC4D85D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C9BD-31FC-4D87-A6E5-563CFB9A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DDDF-F9A1-45E2-935F-452A5696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D43D-98F2-4A73-818B-E17FBA4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8185-DCC0-46FB-AEF2-C1B82A2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CCD0-E28E-4438-A050-C04DEA8D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596E-F557-4A88-BE6B-8E1AC3FA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AC4F-F1CB-4339-A305-7389739B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5A6F3-4A42-4A05-9167-0C30DD20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5DD8-B30D-49BC-83DF-0CCACB82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6D8C-22B1-4378-8B87-A251FBC8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CF43-D1F1-4F4C-8E79-19CD068A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BDCB-DF4F-45C0-ACC3-86C6AB1E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3C91-2973-43B6-8754-0A71B60C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402D-B5B3-4D76-8FBA-327FDCD6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7D396-819F-4590-8583-23FA2859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225F-E1C0-4B71-AB98-216E0248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0C73-0C60-4BAB-9801-10793EF2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71A2-0948-41B2-ABCB-5344876A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3DF5-C0EF-4743-AE67-A48BF208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901-537A-42FD-B587-131C4B31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C3B-4BD0-4179-BEE9-87D6046F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523-9272-4612-B729-BB17C735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AAB-345E-4860-AD26-F1AD41D6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9A2-7D09-4043-8A4B-AA7EB634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7F4-F097-485D-BDC5-36908BAD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A1E-00BD-4E00-BE0C-86BA2C3D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2CB-21A6-49B2-9F4C-89A88262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0952-5C6C-4ECB-843F-948881E89F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FC4E-CDC0-4674-BB24-9310BF65EDB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D0AF-07E9-4216-B4EF-6E71A943CB4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87440" y="650880"/>
            <a:ext cx="86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7. REDNA SEJA ODBORA ZA SPREMLJANJE OPERATIVNEGA PROGRAMA ZA IZVAJANJE EVROPSKE KOHEZIJSKE POLITIKE V OBDOBJU 2014</a:t>
            </a: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020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059280" y="5797440"/>
            <a:ext cx="357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Brdo pri Kranj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9. september 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576720" y="1876320"/>
            <a:ext cx="842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9 k točki 7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hodišči za spremembo meril za izbor operacij v okvi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litike v obdobju 2014–2020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 nalaga 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užbi Vlade Republi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ovenije za razvoj in evropsko kohezijsko politiko, da priprav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končni predlog spremembe meril za izbor operacij v okvi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litike v obdobju 2014–2020 in ga pošlje v potrditev na dopis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ejo najkasneje do konca oktobra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587160" y="239868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0 k točki 8: Odbor za spremljanje se je seznan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z Letnim načrtom komuniciranja za leto 2020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1"/>
          <p:cNvSpPr/>
          <p:nvPr/>
        </p:nvSpPr>
        <p:spPr>
          <a:xfrm>
            <a:off x="646560" y="2327400"/>
            <a:ext cx="759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1 k točki 9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vajanjem vrednotenj za Operativni program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7000" y="236700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ttp://www.eu-skladi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2"/>
          <p:cNvSpPr/>
          <p:nvPr/>
        </p:nvSpPr>
        <p:spPr>
          <a:xfrm>
            <a:off x="981000" y="2494080"/>
            <a:ext cx="77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 k točki 1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dbor za spremljanje sprejme predlagani dnevni 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4"/>
          <p:cNvSpPr/>
          <p:nvPr/>
        </p:nvSpPr>
        <p:spPr>
          <a:xfrm>
            <a:off x="631800" y="227484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2 k točki 2: Odbor za spremljanje potrdi zapisni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7. in 8. dopisne seje Odbora za spremljanje operativ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ograma za izvajanje evropske kohezijske politike v obdobj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2014–2020 v predlagani obli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561240" y="2279520"/>
            <a:ext cx="82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3 k točki 3: Odbor za spremljanje potrdi Letno poroči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2019 o izvajanju Operativnega programa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dbor pooblašča Službo Vlade Republike Slovenije za razvo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n evropsko kohezijsko politiko, da pred pošiljanjem Let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a Evropski komisiji izvede popravke in poročilo pošl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i komisi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1"/>
          <p:cNvSpPr/>
          <p:nvPr/>
        </p:nvSpPr>
        <p:spPr>
          <a:xfrm>
            <a:off x="482040" y="2505240"/>
            <a:ext cx="8462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4 k točki 3: Odbor za spremljanje se je seznanil s stan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na področju izvajanja finančnih instrumentov (FI)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1"/>
          <p:cNvSpPr/>
          <p:nvPr/>
        </p:nvSpPr>
        <p:spPr>
          <a:xfrm>
            <a:off x="552960" y="2398680"/>
            <a:ext cx="804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5 k točki 3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aktivnostmi, povezanimi z Makroregionalnimi strategijami E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n Evropskim teritorialnim sodelovanjem v programsk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1"/>
          <p:cNvSpPr/>
          <p:nvPr/>
        </p:nvSpPr>
        <p:spPr>
          <a:xfrm>
            <a:off x="678240" y="2541600"/>
            <a:ext cx="78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6 k točki 4: Odbor za spremljanje se je seznanil 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om organa za potrjevanje za Operativni program z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vajanje 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1"/>
          <p:cNvSpPr/>
          <p:nvPr/>
        </p:nvSpPr>
        <p:spPr>
          <a:xfrm>
            <a:off x="287640" y="2374920"/>
            <a:ext cx="84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7 k točki 5: Odbor za spremljanje se je seznanil 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om revizijskega organa za Operativni program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"/>
          <p:cNvSpPr/>
          <p:nvPr/>
        </p:nvSpPr>
        <p:spPr>
          <a:xfrm>
            <a:off x="567000" y="2184480"/>
            <a:ext cx="823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8 k točki 6: Odbor za spremljanje se je seznan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 predlaganimi izhodišči za spremembo Operativ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grama za izvajanje evropske kohezijske politike 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dobju 2014–2020 in nalaga 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užbi Vlade Republike Sloven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za razvoj in evropsko kohezijsko politiko, da pripravi konč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log spremembe Operativnega programa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 in 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šlje v potrditev na dopisno sejo najkasneje do konca oktobra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RT- Robert</cp:lastModifiedBy>
  <cp:lastPrinted>2019-06-05T11:34:57Z</cp:lastPrinted>
  <dcterms:modified xsi:type="dcterms:W3CDTF">2020-09-28T22:42:40Z</dcterms:modified>
  <cp:revision>49</cp:revision>
  <dc:subject/>
  <dc:title>PowerPoint Presentation</dc:title>
</cp:coreProperties>
</file>